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E59-D34C-49CD-B840-D3C226CC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76B-B47E-4E4E-B09B-EF0639F5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A3B-2984-4082-882F-C9042381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246-D4A9-4582-8583-95C2E1D4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019-309C-4985-A951-0FA56AD5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5553-8F13-425C-9F83-4537B038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D9E-4038-43F0-BF5C-04AB7B8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F070-61DE-44C0-B0B7-464952B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3DB-F57C-4002-8935-3AA1CCB3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E5A-0DF7-45EE-B520-3FCB5C7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C9CF-DDDB-4E5E-82C9-AE4B85B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438-37AC-4618-8D38-DAFF1A23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EA7C-C983-44B3-9701-F8D396F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E19-9885-4CBD-8DBF-DF9E0F94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C58-A24E-4481-8EA8-644DCCE3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B3CE-FAE5-4921-AB2B-51CFE6A9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C0E9-A1A5-47BA-83AD-16537EE0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A78-D332-4D0B-B623-5713D49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966-F8F3-4A09-A5BE-4DE76039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169-0E17-47AE-8F11-1BA219D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DB9-1D6A-4950-842F-A01146A7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921-A7ED-43EA-9DE1-01B831E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71B-FDDF-4800-BA10-67133BF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9BF-627F-44F2-962D-CAA2B0E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F01-1091-41D4-938C-117005395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10B1-3DB1-4F49-93D1-57C65CE4C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drid.org/" TargetMode="External"/><Relationship Id="rId2" Type="http://schemas.openxmlformats.org/officeDocument/2006/relationships/hyperlink" Target="http://www.munimadrid.es/" TargetMode="External"/><Relationship Id="rId3" Type="http://schemas.openxmlformats.org/officeDocument/2006/relationships/hyperlink" Target="http://www.map.es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MPLEO PUBL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FUNCIONA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3820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FERTA PÚBLICA DE EMPLEO: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EÍN DEL ESTADO O DE LA ADMINISTARCIÓN AUTONÓMICA O LOCAL CORRESPOND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VOCATORIA. INDIC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SISTEMA DE SELECCIÓN: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O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S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OS OPOSIC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SA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REQUISITOS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OLICITUD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ALENDAR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PRUEB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XÁMENES / PRUE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794120"/>
            <a:ext cx="4267440" cy="119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A: TITULADO SUPERIOR/ LICENCIAD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B: DIPLOMAD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C: BACHILLERATO O CF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D: ESO O CFG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E: CERTIFICADO DE ESTUDIOS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71629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CIÓN SOBRE EMPLEO PÚBLIC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4880" y="2257560"/>
            <a:ext cx="7551720" cy="359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NTROS OFICIALES: TABLONES DE AYUNTAMIENTOS, JUNTAS MUNICIPALES DE DISTRITO, MINISTERIO DE ADMINISTRATIC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LETINES OFICIA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ESTA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AUT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IBLIOTE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ET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madrid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BOCM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unimadrid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OPOSICIONES Y OFERTAS DE EMPLEO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map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PROCESOS SELECTIV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NSA: Mercado de Trabajo, AB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AD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LEO PRIV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FERTA DE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SPUESTA A LA OFERTA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ta +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CESO DE SE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ueb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sico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ina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trevista de 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7:56:44Z</dcterms:created>
  <dc:creator>AUTOMOCIÓN</dc:creator>
  <dc:description/>
  <dc:language>en-US</dc:language>
  <cp:lastModifiedBy>AUTOMOCIÓN</cp:lastModifiedBy>
  <dcterms:modified xsi:type="dcterms:W3CDTF">2008-01-23T09:27:41Z</dcterms:modified>
  <cp:revision>2</cp:revision>
  <dc:subject/>
  <dc:title>EMPLEO PÚBLICO</dc:title>
</cp:coreProperties>
</file>